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0177-9160-4B85-ABFA-3B4BAC6B7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E508-E46F-41E7-9C2C-314E91BEC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6451-C74E-4EE8-9665-A45A424F5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FE5A-16FD-4C38-B529-DB8E9EAA4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E4C-B86F-4F08-9EDA-723CCD01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A3D-8FE2-4C9A-A3E9-A0B93DDE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B1F-EC64-42E6-A852-A572F949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C60-A97B-4ABA-9292-D218932E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AC4-EF36-435B-A3BE-F6F7DCDA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618-02B6-4CA2-A344-4D7C86AA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6E6-BC8E-4ED9-B33C-7B7F3F09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A75-05B9-4CB4-9087-6EBCFFDF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49A-86B7-4333-B6A3-3B1C985C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24D-412B-41A9-9502-B29C437B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5DF-30C8-46C3-826B-C8BA3784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F1A-1ABB-467F-8421-310132F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56BD-6271-44DD-98AB-657765076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15-SS01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a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.0007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ng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89.6191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BP-TN15-SS02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91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97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BP-TN15-SS03.jpg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477120" y="2971800"/>
            <a:ext cx="2361960" cy="146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15-S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8/2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6.8245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9.5762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8-25T00:54:29Z</dcterms:modified>
  <cp:revision>28</cp:revision>
  <dc:subject/>
  <dc:title>Slide 1</dc:title>
</cp:coreProperties>
</file>