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E00-8238-4A7F-9535-DFF1E91D2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0CBC-4506-41C2-8119-8710E1EA5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5132-D01F-4CC6-B459-1C8CD3DD5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FF6-2A60-4F6F-BBD3-8F83A478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69E-A1A1-4E33-B84B-BD932A70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FBB-5327-4C93-9DDF-8B32ABF9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D94-61EC-4406-9D79-445C635E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5E2-2F41-4FCA-BB77-146F6F8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9E9-722C-4B37-BC19-4792DB58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7BB-ADB6-4C2D-8E62-DB27FDA0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688-228F-414F-8B17-5DB4B40E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6E4-2465-4FD9-9257-960355D8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7FA-B865-482D-9B8F-30F48314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C6F-23CC-49A6-BA8B-6B2BE28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897-0925-43F3-9367-EBB823A3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8A01-CF16-4E49-8EAB-7B1412C06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5-SS04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.7364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5550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5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64832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336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6T01:56:17Z</dcterms:modified>
  <cp:revision>29</cp:revision>
  <dc:subject/>
  <dc:title>Slide 1</dc:title>
</cp:coreProperties>
</file>