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BC2-0DF8-4DF3-B5DA-E604B94EF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38C6-1BCC-4A74-B4B5-452ED356B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849A-AB53-4F44-96EE-9296D3D46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D1A-A83D-41D1-99BB-E8F5F60F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DA4-3C23-427F-AFB8-A2B11BFA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C9A-83AD-4F9C-95BE-A11CAA13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E3D-AE92-4C79-AB9B-22C96B46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303-B574-4851-80D6-BAD0443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017-5859-44B1-9174-628141DE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110-8965-4A4E-88DD-0E8490D5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70B-C38B-437E-B620-76CBECC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13B-FD82-49BB-8A96-A5F38D4E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DFC-A7D9-4288-8F24-AAB12BE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8F6-9BFA-47CE-A4D2-18D8BE66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4FD-AE21-45CD-8D58-3FAB0F9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1B49-8FBD-4345-B558-38547891D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P-TN15-SS06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56045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126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7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6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472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4910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20:11:14Z</dcterms:modified>
  <cp:revision>30</cp:revision>
  <dc:subject/>
  <dc:title>Slide 1</dc:title>
</cp:coreProperties>
</file>