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BE6A-5750-46E9-8E38-D614B4A314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37FA-F260-4C6C-9752-8CE3E03A6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0F99-6B0A-426A-8212-9BBEA0F39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61CA-A144-4710-B964-928C40870D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8440-8EF9-4CAB-9BDE-8813E151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67E8-2333-4EF1-A5C6-F66CF0BF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8392-0990-4D8B-B330-51959456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1B9D-E4FD-44E2-9A97-60D69286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7EE5-24AD-40C6-A975-EC474987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3B68-A87D-452C-A1AF-D018C2B4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D8B2-A00D-4ECC-9915-CB821C40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D0DA-69C3-41B6-A588-8338680B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27B5-82DF-4411-908D-7EC1BFAA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39DE-5B40-4A90-B3B7-736FE429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1D50-6A9D-4963-8BF9-EE11541B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EDF0-3895-432F-80A6-24EE538F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B2E8-D79B-4A02-9982-D5CCD86C0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BP-TN15-SS01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6477120" y="297180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5-S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4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at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7.0007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ong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89.61919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BP-TN15-SS02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477120" y="297180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5-S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4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6.91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9.597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BP-TN15-SS03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6477120" y="297180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5-S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4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6.82458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9.57624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0:05:14Z</dcterms:created>
  <dc:creator>Kaitlyn Summers</dc:creator>
  <dc:description/>
  <dc:language>en-US</dc:language>
  <cp:lastModifiedBy>Kaitlyn Summers</cp:lastModifiedBy>
  <dcterms:modified xsi:type="dcterms:W3CDTF">2010-08-25T00:54:29Z</dcterms:modified>
  <cp:revision>28</cp:revision>
  <dc:subject/>
  <dc:title>Slide 1</dc:title>
</cp:coreProperties>
</file>