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7756-2410-4EAF-85D3-3917F42D3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47B9-DA99-4859-96EB-1148C0308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BB4A-1D52-42AC-BFE7-DF4237C8D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1C8-1E55-4673-B186-B6885645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7F0-90FE-499D-B8CD-3F1BB6A1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016-4B88-447E-A6D1-CF1630A3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B6D-891A-40CE-966C-837A301D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901-3028-4EDF-B2FB-CC89C9F3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C7D-4FA5-48EC-8088-19D39339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998-3151-43FC-B5A7-9674541A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BCC-EDE6-457F-A73A-A7B96320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5D7-BD89-4F43-B7E7-84EE81C3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708-5A4F-4FF1-9B7F-24981F8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C7A-A6DF-4CD1-B4AC-20CF6E01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FB8-2C8E-4E4C-8B5E-6357F5E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E705-6942-4F36-BDF1-9F3AAAF47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5-SS04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.7364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5550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5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64832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336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6T01:56:17Z</dcterms:modified>
  <cp:revision>29</cp:revision>
  <dc:subject/>
  <dc:title>Slide 1</dc:title>
</cp:coreProperties>
</file>