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A78-5CDB-4DA8-8277-6F934ED22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E79-25E2-4CC4-B498-E8312F445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5776-2936-4CBD-97E2-54F54178D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7D1-F67C-44D2-9FD6-29958BFE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C43-391E-4EC8-8C67-A138CA2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FB6-7386-4DEA-8CE1-CAC0869F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47B-7B6B-44D4-A741-AB2331BA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DC6-B2D1-4C6A-BECF-840BBF2B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232-F009-4E33-8FFB-4E1B4255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F86-E288-4BED-9921-B8E92048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69F-8F79-41C5-A1F1-A55BC37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4B3-A869-496F-BCD7-CF38A3E7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E23-4CEB-4536-B37A-3FF60ED2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7C6-7D2A-4554-9778-D536F41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90F-624A-4F7F-95B7-BA29283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3D6B-E7E0-43D3-9BEC-3790C96F0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P-TN15-SS06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5604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12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7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472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4910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20:11:14Z</dcterms:modified>
  <cp:revision>30</cp:revision>
  <dc:subject/>
  <dc:title>Slide 1</dc:title>
</cp:coreProperties>
</file>