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DFE0-B4DD-47C8-9EA1-BC86CD0EC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3057-6C5E-4B0F-966C-EF3B9A582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B30F-3D50-4801-B33D-557B51F6E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B4EC-7649-4BDB-A788-3B3BCAA84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F0C-7E12-457F-B0BA-B54EFCC7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902-61E6-4B95-948F-3D9519D4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B34-482A-43E4-BA28-BD213490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64A-A948-444E-900A-5189DD3E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ACF-C9EE-462E-B5FD-E8261992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4EF-3CEB-4C62-98A4-0EC4E290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47D2-2377-4079-B354-DE5EB959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CD0-0DA4-4DEA-9DCE-DE919F9E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E8F-B935-4ECF-AC9E-6EDA55C2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F15-45AC-4A5A-847C-D1134948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12B-F7FD-41ED-B4C7-E17D492B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93F-9E74-4736-A3FD-25B42E55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F95D-2368-496D-A661-E7FB4F32B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15-SS01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a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.0007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ng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89.6191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5-SS02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91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597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BP-TN15-SS03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8245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5762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5T00:54:29Z</dcterms:modified>
  <cp:revision>28</cp:revision>
  <dc:subject/>
  <dc:title>Slide 1</dc:title>
</cp:coreProperties>
</file>