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36E-D2A9-4DBE-8D73-FBF58F32D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683-B660-40E7-8C9D-F70D4958A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B4E-457E-4873-AAE8-25E5A206A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B18-5796-4FAB-A3CF-A7D9E68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D69-08D2-4277-8936-0BD4CDE1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85D-CDA8-4B74-AA31-85E872D7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6BC-BF98-4847-86AE-81328B25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265-4868-49C5-BEA2-20CF6ED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A56-A17F-469E-9EE7-F83A32A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8A5-0AFB-4948-972C-A1E5EB3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695-D172-4445-8AB4-E428EA33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C7F-0D0E-465A-8341-BA8837EF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E99-2AE8-445E-9D4F-0E39739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4B4-CAD5-40DC-AFB6-F0271FF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3D5-D64C-43D9-A03E-DA6BCA5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EA4-8F47-43AB-B59A-F615061CA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4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7364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55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5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6483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336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01:56:17Z</dcterms:modified>
  <cp:revision>29</cp:revision>
  <dc:subject/>
  <dc:title>Slide 1</dc:title>
</cp:coreProperties>
</file>