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9280-81AE-4A97-A0A5-C600629571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21CE-9561-4883-95BE-D0398B4BE6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19EC-50FA-462B-96AE-A7B5DE0F5D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3A6D-CEEF-4087-AA6E-3EA5735C9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C1B3-8F44-47C5-9FF8-7246AE6D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0F2F-847A-47C0-9E3C-E7C9024F6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7AEC-1FD7-4095-BFAC-D77FA5508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2FAC-BBEC-489B-AB2F-952ED0B5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F612-8064-4033-BBCC-D2E31BB2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6245-C13E-43F7-B5CF-9C615E49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AAFF-53D7-4A7A-805F-4083C56A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D81C-3DF4-471A-BBCF-22914FD7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97F5-FA0D-472D-B35A-7D7EDAD2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EF84-5ABE-4061-8132-ABBBFF87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91B6-E6FD-4158-872F-7B66C677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54ED-45CC-48E8-8D30-867CC90EF8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BP-TN15-SS06.jpg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6477120" y="2971800"/>
            <a:ext cx="2361960" cy="1465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15-S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8/26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at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6.56045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ong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89.51262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BP-TN15-SS07.jpg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6477120" y="2971800"/>
            <a:ext cx="2361960" cy="1465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15-SS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8/26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6.4729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: -89.49109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00:05:14Z</dcterms:created>
  <dc:creator>Kaitlyn Summers</dc:creator>
  <dc:description/>
  <dc:language>en-US</dc:language>
  <cp:lastModifiedBy>Kaitlyn Summers</cp:lastModifiedBy>
  <dcterms:modified xsi:type="dcterms:W3CDTF">2010-08-26T20:11:14Z</dcterms:modified>
  <cp:revision>30</cp:revision>
  <dc:subject/>
  <dc:title>Slide 1</dc:title>
</cp:coreProperties>
</file>