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BE5-466E-4E2C-AA26-B7FF11EBE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7FC-1265-49F0-B1E0-6AB8C00A2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463D-0B73-4F4C-B138-5D947E509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9F6-1EA1-4585-8DDD-13D00C4C8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C78-8BB3-48B8-9F7C-4AE6C50D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A05-CF17-4F37-96BB-D09B8DF7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566-E523-4509-A426-4316FDA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EDB-D23B-40AC-9EFE-8C11349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AF6-30A2-4ACB-ADFB-FC277FD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758-8372-45EF-ADF1-08F10D6E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C9F-42FA-4D44-9CF4-DB23D2F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03A-E6D4-4F3F-9D92-D0EBF8C3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9AB-8B9A-4EFB-94F2-52CD5E7C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1BF-D834-4EB6-8636-EE90392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CD6-3E11-4557-8177-D39E07B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7C5-6D4A-460E-8D6D-2E355BF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8AB-8819-4F5A-9984-6618C211E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0007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619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9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9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P-TN15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8245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76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5T00:54:29Z</dcterms:modified>
  <cp:revision>28</cp:revision>
  <dc:subject/>
  <dc:title>Slide 1</dc:title>
</cp:coreProperties>
</file>