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A93-3DB0-4891-9801-6823475E2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C85-F2E1-40D3-BB69-9C832F74A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5316-7FC9-4C4B-8E4F-AB47D7628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092-DF6C-4BD5-AAB7-836E169D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509-EE9B-471D-8CC4-4CECAD4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498-D33D-4E24-A188-812C674D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7EE-5DA4-405F-A4B0-7BBEB6EB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580-3D6C-412D-BFB8-230A5D54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FB7-C29F-455F-97E3-EAD74CB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AC9-8A9B-46F0-AA0D-DF02C4B7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884-2F4E-4C1C-818A-4D5E324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EE6-8FD2-45BA-83A8-9DD313C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8AF-D31E-4C28-A625-3747FB8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A6B-8198-426D-895C-8799C00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095-80A4-4DDE-9429-22F067E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C440-F71D-4F68-8C27-23D979F44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4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7364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55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5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6483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336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01:56:17Z</dcterms:modified>
  <cp:revision>29</cp:revision>
  <dc:subject/>
  <dc:title>Slide 1</dc:title>
</cp:coreProperties>
</file>