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CA02-9B9C-4411-AD38-6AD061CF8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B97-ABE9-475F-B68A-CD852D91B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D14-5388-40CE-AF84-7A417795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DEE-C546-48E1-9690-24F193AE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0E2-2A96-40EA-B9BA-8116B55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DE5-0525-4F2D-AD9A-80AC3068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2BD-36FE-4B09-98A8-AA619979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FC-B215-4DD5-B331-9243A69C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BE4-F77F-4951-92BA-E0586838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BA2-3BDC-4858-8BEC-7FC5F08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945-F22D-444A-9FE8-30114FB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C05-FAC7-489F-8BD6-356CD21D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0BA-FE5B-4DEA-B4F1-F9816B3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2A3-027B-422B-B3CA-D57C0A7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4CF-500A-41D3-94A2-53C1D06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8D80-4307-4421-8665-073F6B073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P-TN15-SS06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5604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12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7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472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4910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20:11:14Z</dcterms:modified>
  <cp:revision>30</cp:revision>
  <dc:subject/>
  <dc:title>Slide 1</dc:title>
</cp:coreProperties>
</file>